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C21F-F85B-4936-B60C-19C221305DF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A8BB-112F-49B2-8561-A987E47279A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AA88-C5C9-4FD6-994D-428F078C947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E599-4DB8-4503-9E47-C93F273F4C9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A834-E0B3-4C3C-8069-4525278306F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565B-592F-440C-8DCA-16BCD7E1C53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9654-CF7A-49FD-9173-8887C3CC1B4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2C8D-03B4-4AB1-98B3-FB6577A81B7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F872-08F6-480F-9EDB-E6521F2CE59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9F75-304D-4728-BAAF-9359C191443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8243-1417-4461-96CA-C978E4CC3A4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E7B1-CAF1-446C-B6E3-A667D4F9E4C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9040-C7C8-431E-865D-2D5681DC9A9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C737-3372-4D19-BAB6-956423D08AF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9554-648A-4EC3-A0F6-8B1BA4D26E3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5331-026F-4BDA-BB18-51EDF1E5130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F605-62B9-4863-A4B6-4238CB7C18C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8AAE-4622-4A29-B649-EF811C7FAA5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BE0D-A7BA-4F06-BAAB-CA061048F35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2C83-3C33-45A5-A045-90B22EDE16B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3675-1473-41C3-9154-690822FCB05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3227-5B41-469A-9AE4-FBE9AD70064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9031-B3FA-49E1-A57E-2B052F1B4D8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30FD-76D0-443D-9847-5BF3CC15429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6381-F498-436A-BAC9-66AB869F23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5B4C-56B5-462C-8839-6A4C5A6844D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466D-5C6B-4DEB-97C9-2A5494125DA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CFC2-0F41-417C-A366-AB7B1B32C0B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59A2-A66E-49B4-895A-3A0B2FFE3BD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5384-6CFA-44BD-9A26-D2BCC2B5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E10A-ACAC-45E9-853C-B0791862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7F29-11B3-4030-B891-8ADA4601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7D4-48DC-41E6-B607-A204D9C7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3857-9EE5-4307-900A-E15F9B3D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2EE1-6C51-4B0B-8C8C-D6B77DD9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45A0-2914-4201-AA33-4C8D6CAA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779C-7870-4BA3-97DC-63192BBE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3B0-87AE-4457-BE58-7CC9E2AB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D8EF-5348-469D-BAB5-561297D9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90A0-CC25-4F90-9BFA-93D3B760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3CD-EE95-4D1D-8DFE-BBA340C6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AC3D-AFD0-433C-9B78-B033DC9245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ahoma"/>
              </a:rPr>
              <a:t>Kinds of Sentences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10" descr="http://upload.wikimedia.org/wikipedia/commons/c/ca/Quill_%28PSF%29.png"/>
          <p:cNvPicPr/>
          <p:nvPr/>
        </p:nvPicPr>
        <p:blipFill>
          <a:blip r:embed="rId2"/>
          <a:stretch/>
        </p:blipFill>
        <p:spPr>
          <a:xfrm>
            <a:off x="3127320" y="2876400"/>
            <a:ext cx="2889360" cy="48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there are many different kinds of animals at the zo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open to Chapter 5 of your math book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rob has an iPod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be careful with your iPod and cell phon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how entertaining and amazing the acrobats ar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do you have an iPod or a cell phon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please pass the salt and pepper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it is sunny outsid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are you planning to travel during your vacation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what a beautiful day it was on Saturday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There are </a:t>
            </a:r>
            <a:r>
              <a:rPr b="1" lang="en-US" sz="7200" spc="-1" strike="noStrike" u="sng">
                <a:solidFill>
                  <a:srgbClr val="ffffff"/>
                </a:solidFill>
                <a:uFillTx/>
                <a:latin typeface="Tahoma"/>
              </a:rPr>
              <a:t>four</a:t>
            </a: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 different kinds of sentences.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would you like to go to the beach with m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bring your hat and sunblock with you to the beach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wow, what a good play that wa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the student went to the store to buy some candy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what is your favorite food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i wonder if this is the last sentenc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this is the last practice sentenc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68580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riting Application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15235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Good writers will try to use at least 2 of the 4 kinds of sentences in a paragraph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Tahoma"/>
              </a:rPr>
              <a:t>Declarative Sentence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A declarative sentence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Tahoma"/>
              </a:rPr>
              <a:t>makes a statement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.  It ends with a period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He likes pepperoni pizza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The umbrella is green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Mrs. Smith is a teache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Tahoma"/>
              </a:rPr>
              <a:t>Interrogative Sentence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An interrogative sentence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Tahoma"/>
              </a:rPr>
              <a:t>asks a question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.  It ends with a question mark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Do you like pepperoni pizza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Have you seen my umbrella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Who is your teacher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Tahoma"/>
              </a:rPr>
              <a:t>Exclamatory Sentence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An exclamatory sentence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Tahoma"/>
              </a:rPr>
              <a:t>shows strong feeling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.  It ends with an exclamation point.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Hooray, we have grammar today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Wow,  that’s great news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Tahoma"/>
              </a:rPr>
              <a:t>Imperative Sentence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An imperative sentence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Tahoma"/>
              </a:rPr>
              <a:t>gives a command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.  It ends with a period or an exclamation mark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Go to your room now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Throw me the ball pleas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Bob, please close the doo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ffff"/>
                </a:solidFill>
                <a:uFillTx/>
                <a:latin typeface="Tahoma"/>
              </a:rPr>
              <a:t>Practice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See if you can correctly identify and punctuate the following of sentences. 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are you going to the movies tonight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What kind of sentence is thi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what a great movie that wa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5:39:22Z</dcterms:created>
  <dc:creator>Brent Coley</dc:creator>
  <dc:description/>
  <dc:language>en-US</dc:language>
  <cp:lastModifiedBy>... ...</cp:lastModifiedBy>
  <dcterms:modified xsi:type="dcterms:W3CDTF">2011-07-08T02:18:41Z</dcterms:modified>
  <cp:revision>119</cp:revision>
  <dc:subject/>
  <dc:title>Kinds of Sentences</dc:title>
</cp:coreProperties>
</file>